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81BD-5374-4E4B-8604-8863B0AE3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FB0-3839-4638-BBE7-45A1DD016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1FA6-ADAA-43C0-AB23-E5F5370F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4D6D-48CB-4DA0-B2CB-0B5F4B66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CB2E-AEFA-41F6-980E-02E735FD6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96DD-0C22-499A-BC33-2C8462D0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CBE8-1880-4FF4-A754-53BA3AEF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E5EE-8B5F-4154-B068-E7C99782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9EDF-A62A-4586-A2F8-3895E06A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789-5EDC-4218-B066-0B670736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9FD-10E4-49F9-B5E1-2FC3AFA98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405-1E70-4226-B0CE-16E1145D4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9B13-3127-4958-95D3-5508452A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BF0-D90E-46A2-BBFF-6CAB475AE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30DB-3E10-437C-BFA1-222AE8EA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66F-6F1A-493E-9872-0FC3319F8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91EF-46A1-404C-82ED-9ADFD2BF0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0EE-27E7-45F6-9634-0ED90578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F3E-AC84-4C79-A456-82119ADB8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C9F4-18B5-4123-92B5-3CF782E2A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A9AB-7628-498D-B72B-6FFD6F66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B1A7-5E92-47D3-B963-1BF82E4BF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13E7-15AD-476A-8F74-8A323591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8534-BC66-4349-B02A-3AB15AD67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FC00-1856-4586-8E70-D835B440E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1913-996F-44DA-81B8-C411EE1CB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A79-52FB-4871-8DB4-94EF28AF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609-315C-45EB-AC34-BBC67921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2EC-A563-4C4E-87BA-63DC0E42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A8F-6169-48E6-9ACC-94ECF5D3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3BC6-9447-461C-ACB3-EBD0BB81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A23E-91F0-43E9-B479-887EB1E5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7567-7FF0-4813-9D0C-ABE3E1F9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601C-A6F6-4260-8034-C3D14B2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C488-E2CC-433B-8F1E-B8FE1459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81E7-3230-4BD4-BD7C-0157F096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4A86-EF91-4BE3-8D02-C86A85D0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B5E-FD85-4D11-93F9-7C1B5DFB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B521-1EDC-42EF-BCD7-1F8CEA91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BD54-EF07-4966-988C-886EDF0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EAD1-6CA8-4A3D-9D00-4B3AEB2D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D09D-F85D-4C8F-816E-BA157454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D83C-D377-4EF3-AEE1-7309784E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C12E-FB83-422C-A4CD-06417F16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9CF5-D588-405F-9944-ED0AD2AA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8657-6B95-4D5F-B6B1-7B7F64F3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C64B-A682-478E-A686-6C077B9F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1A27-FACD-4ECC-95B7-0A711397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0DF-E6F7-435E-BE70-B49D5E95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CF9B-9C26-4C53-BDCA-1B9AF560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81B5-933F-4565-A040-C076A849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97DC-AA3A-49E9-8A8E-36840A4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E2F1-4051-4B5D-BD18-711E482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0B6B-B2EA-4632-9FE4-464207DB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9582-C930-43FE-BEFF-31F976E2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A306-1F38-4B21-BC06-5E05B9F3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F190A-4E79-45E6-94B5-4F0AC4A1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5AD1-AF1D-4988-8F09-09AF7DB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9AF6-A415-46B6-8873-D1B507D4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D6A-EE6C-49A0-9D06-A07D7E5F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253F-18B4-4A56-8A05-1764F81A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E7D3-3248-4CA1-B2E6-F3E51FA5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112C-1E47-400C-8F57-032ADCE1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08F8-310D-4BA7-9DCC-39BA6AD9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D13D-73D9-45B5-829F-CCFBE57C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82CC9-ED00-4DDD-9E11-24321FCB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B0E54-3348-44AF-81A4-8906713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F24F-8246-4662-A548-EA7F44A6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B9AF-0B3C-4482-BF87-AB797251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7D753-BE8A-4753-844B-D5628681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7CC-9F4E-4203-8859-0631443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45C7-C105-44FF-B5C9-EF4D8613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F815-DDF6-48D1-B7E0-7A58D9E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0661C-4789-48E2-B545-8E972185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21F3-BFE1-4C83-9739-4B17ADF9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A1CB-F0EF-4674-9E13-507A04FD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539D-4F9F-4EA2-A78B-9A4B152B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EA4F-1652-44B2-B206-9336353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D69BC-D46F-412A-B88E-3B964E4B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6643-C7DE-49CE-A6B8-44F807F1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9B8B-5210-4889-BB25-7FC5FDCA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202-27FF-4D34-A601-A727591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F737B-443C-404E-A7FF-6F9B3741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896-1E92-4F96-954F-609D19CA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011-C949-44B5-889F-1F7D059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23E-C4C9-46CD-8D92-8945250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8ED6-FC7E-463D-AFD6-5ADADFCD7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15FA-D0F5-4646-9C25-E5B08BF2162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B00C-6084-458B-AD99-84D841B6A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MoleculeTracer.png"/>
          <p:cNvPicPr/>
          <p:nvPr/>
        </p:nvPicPr>
        <p:blipFill>
          <a:blip r:embed="rId4"/>
          <a:stretch/>
        </p:blipFill>
        <p:spPr>
          <a:xfrm>
            <a:off x="1674720" y="225360"/>
            <a:ext cx="5796000" cy="3943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A255-1DC8-4AC4-9513-95C2FB96370E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068-032B-4908-A15D-CCFFB5311B0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05F1-761C-45D6-B57A-DAE24D201656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CD00-58A6-4A96-AE72-9027164C0C2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3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6572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elcome to the 2011-2012 school year!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ossible Behavioral Consequen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arning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Conference with student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You call home and explain to parents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 make formal parent contact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fter school detention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Referral to Administration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2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ass Procedur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e will only be reviewing the most commonly used procedures at this time.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Refer to your Procedures handout for a more complete list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Procedures may be changed or added to if the need arise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y Do We Have Procedures?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29528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4760" indent="-3747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 procedure is the way that we do thing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To do things efficiently, we have to follow some simple procedures, for example: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o open your locker, you have to select your combination as directed by the lock manufacturer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o cook a delicious meal, you need to follow the steps in the recip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o place a call on your phone, you need to dial the number in the right order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380240" indent="-2610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o, to be successful in learning,           you need to follow some simple procedures!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9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ENTRANC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Make sure you have all necessary materials for the clas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Enter the classroom quiet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Pick up any handouts and do any housekeeping items quickly and quiet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Go directly to your assigned seat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Get ready for work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Right After the Bell Ring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mmediately start your entry task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hen you finish, wait quietly and read in your individual or classroom book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12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During Instruc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Listen to the teacher/speaker with full attention.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No pencil sharpening, talking, moving about the classroom, or whispering.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sk permission to speak by raising your hand and waiting quietly to be called on.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fter instruction, make sure you understand the concept.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f not, ask questions by mentioning which part you didn’t understand.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ndara"/>
              </a:rPr>
              <a:t>    </a:t>
            </a:r>
            <a:endParaRPr b="1" lang="en-US" sz="1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9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If the Teacher Raises Her Hand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3520" y="137160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4760" indent="-37476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Stop whatever you are doing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Face the teacher and wait silent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ndara"/>
              </a:rPr>
              <a:t>Quietly</a:t>
            </a: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, notify any classmates who haven’t noticed that the teacher has raised her hand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No talking or whispering.  All of your attention should be given to the teacher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Other ZNS (zero noise signals)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apping – respons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f you can hear me, clap once…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5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ndara"/>
              </a:rPr>
              <a:t>When You Are Absent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sk your neighbors what we did.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heck the “You missed out” fil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f you have questions about assignments, check with the teacher at an appropriate time.  Do the work at hom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f you missed a test because of an excused absence, inform the teacher and arrange a time to make up the test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141560" indent="-34452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You will have one day to make-up work for every day you are absent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5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ile You Are Working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Make sure you read or listen to the directions about your work and understand the directions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If you didn’t understand, quietly ask for help from other students sitting around you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If you are asked to help, be polite and help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Talking to each other should be no louder than a whisper. 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Respect each other and be friendly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Use your time wisely.  Put forth your best effort to finish your work on time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66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After You Are Finished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4760" indent="-37476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Check your work and the directions one more time to see if you missed anything or did something incorrect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Check to see if the heading is written correctly on your paper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f the assignment is to be turned in, do so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f appropriate, read quietly in your seat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5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457200" y="671400"/>
            <a:ext cx="7315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room 00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be thinking, “Am I in the right plac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a0d"/>
                </a:solidFill>
                <a:latin typeface="Arial"/>
              </a:rPr>
              <a:t>If your schedule s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a0d"/>
                </a:solidFill>
                <a:latin typeface="Arial"/>
              </a:rPr>
              <a:t>Mrs. Lancaster, Sci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a0d"/>
                </a:solidFill>
                <a:latin typeface="Arial"/>
              </a:rPr>
              <a:t>you are in the right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aintaining the Classroom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Pick up any garbage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Recycle paper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Do not intentionally deface school, personal, or other’s personal propert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39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Dismissal</a:t>
            </a:r>
            <a:br>
              <a:rPr sz="5600"/>
            </a:b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Clean your work area and take all garbage to the trash can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ait in your seat for the teacher to dismiss you.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Leave quietly, ONLY after you have been given permission to do so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When You Have an Excused Tardy</a:t>
            </a:r>
            <a:endParaRPr b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Report to attendance office to get tardy slip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Enter the classroom quietly and go to your seat.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You will not be excused from any work you missed.  Quietly, get the assignment and </a:t>
            </a:r>
            <a:r>
              <a:rPr b="1" i="1" lang="en-US" sz="2800" spc="-1" strike="noStrike">
                <a:solidFill>
                  <a:srgbClr val="ffffff"/>
                </a:solidFill>
                <a:latin typeface="Candara"/>
              </a:rPr>
              <a:t>do the work at home</a:t>
            </a: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en There Is a Substitut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83040" indent="-38304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e treat guests in our room as courteously or better than we treat Mrs. Lancaster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766080" indent="-383040">
              <a:spcBef>
                <a:spcPts val="6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Sit in your assigned seat ONLY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66080" indent="-383040"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Maintain proper voice levels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66080" indent="-383040">
              <a:spcBef>
                <a:spcPts val="6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Remain on task. 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66080" indent="-383040">
              <a:spcBef>
                <a:spcPts val="6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Be helpful and courteous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4" marL="1409760" indent="-3254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ubs will report behaviors (good &amp; bad) and proper consequences will be applied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0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Final Though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Learning without reasoning leads to confusion; thinking without learning is wasted effort.” 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~Confuciu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52600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ntact Inform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Email  xxxxxx@washoe.k12.nv.us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Office Hours:  M</a:t>
            </a:r>
            <a:r>
              <a:rPr b="1" lang="en-US" sz="2800" spc="-1" strike="noStrike">
                <a:solidFill>
                  <a:srgbClr val="ffffff"/>
                </a:solidFill>
                <a:latin typeface="SimSun"/>
                <a:ea typeface="SimSu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F 2:00 - 2:30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and every day at lunch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ISSION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60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Mrs. Lancaster’s Science class is a place to explore the world around us and to ask and answer questions regarding sound scientific practice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ELCOME to SCIENCE!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elcome to Science clas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 am here to teach; you are here to learn.    I will do my job; you will do yours, and together we will utilize this year wisely and beneficial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 positive attitude is the key to success. Let’s keep it all the time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ass Syllabu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79400" y="1892160"/>
            <a:ext cx="3657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cientific Metho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etric System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Living/Nonliving classification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ell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tructur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Processe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Reproduct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657600" y="1598760"/>
            <a:ext cx="3992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6400" indent="-403200">
              <a:spcBef>
                <a:spcPts val="60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Heredity &amp; Evolut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enetic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Plants &amp; Animal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lassificat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natomy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cology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nvironment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cosystem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Resource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838080" y="11430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we expl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ass Polici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4920" indent="-39492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There are only five basic classroom policies. 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4920" indent="-39492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Following these policies will help keep our class environment peaceful and productive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4920" indent="-39492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f you choose not to adhere to the policies, there will be logical consequence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4920" indent="-3949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y do we have policies?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3520" y="15984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78720" indent="-37872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 policy is a plan that guides our action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To do things effectively, we have to adhere to some common sense policies: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overnments invoke laws to help maintain peaceful communiti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mpanies have by-laws in order to facilitate productive work environment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mes have rules to create a baseline standard of play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447200" indent="-263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o, to be successful in learning, you need to follow some basic classroom rules!       I call them my class polici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5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assroom Polici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Be ready to learn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Always act and speak in an appropriate manner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No food, or drink allowed.*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No personal electronics allowed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Respect the classroom environment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632160" indent="-63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lvl="2" marL="632160" indent="-63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12c28"/>
                </a:solidFill>
                <a:latin typeface="Candara"/>
              </a:rPr>
              <a:t>	</a:t>
            </a:r>
            <a:r>
              <a:rPr b="1" lang="en-US" sz="1900" spc="-1" strike="noStrike">
                <a:solidFill>
                  <a:srgbClr val="212c28"/>
                </a:solidFill>
                <a:latin typeface="Candara"/>
              </a:rPr>
              <a:t>*Water and medical necessity are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lvl="2" marL="632160" indent="-63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12c28"/>
                </a:solidFill>
                <a:latin typeface="Candara"/>
              </a:rPr>
              <a:t>          </a:t>
            </a:r>
            <a:r>
              <a:rPr b="1" lang="en-US" sz="1900" spc="-1" strike="noStrike">
                <a:solidFill>
                  <a:srgbClr val="212c28"/>
                </a:solidFill>
                <a:latin typeface="Candara"/>
              </a:rPr>
              <a:t>the ONLY exceptions*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1:48:30Z</dcterms:created>
  <dc:creator>Sacha Mike</dc:creator>
  <dc:description/>
  <dc:language>en-US</dc:language>
  <cp:lastModifiedBy>Diane Lancaster</cp:lastModifiedBy>
  <dcterms:modified xsi:type="dcterms:W3CDTF">2010-09-30T15:22:49Z</dcterms:modified>
  <cp:revision>55</cp:revision>
  <dc:subject/>
  <dc:title>CLASSROOM PROCEDURES</dc:title>
</cp:coreProperties>
</file>